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AF13-7C82-4434-992F-13013F6C25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6E8F-5FD9-4D7D-A697-77F778378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проектов правовых актов. 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, формы и виды экспертиз в правотворческом процессе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и-коррупционная экспертиза муниципальных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аемым задач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E84B-03D5-44A2-8917-DAB6B9464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(по догов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(инициатив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3C11-589C-4C81-BA25-AE885A3DF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щественная экспертиза проекта/реш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E6AA-5AB5-4883-AC3D-9CD0B23EEA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FD48-4CDB-46C0-8767-552E2EAEA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(правовая)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D506-A696-4A16-B019-CC1BFA7EF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172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3889-AD0C-4B90-86A1-0E46AAC38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овации закона об антикоррупционной экспертизе (АК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с институтами гражданского общества при провед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ая трактовка «коррупциогенных факто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рассмотрения представлен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нициатив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7597-2EF1-46B8-8910-F5D28D471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0360-56E9-474E-9D33-E9DE5FC98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принятие муниципального нормативно правового 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3,ч.1,п.3. ФЗ№17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D7EF-783B-4DE9-92BD-A7F737135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3A05-ECC8-4139-94F9-B156093FF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опреде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органов местного самоуправления и легитимность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AB50-C1F6-4346-8716-E72002875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ррупциогенные факторы (ст.1, ч.2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86BF-33CA-4049-AB4A-0846052B2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A534-0ABF-4A0E-9787-8B64998FE4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корпуционная экспертиза проводится в отношен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4012-C93E-42A5-899F-20209DDB02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рави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 на коррупциогенность (АК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18F3-369B-46A0-B128-0FE0C66BC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АК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зультатам АКЭ составляется экспертное заключение, в котором отража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6C90-D76C-4A2B-B5FE-84B4842AC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е факторы (из 172 Ф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5B0F-87DF-455F-B65B-DF68507CF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A743-690C-4539-B603-58401A34C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7D3A-221C-46BE-9392-D488D470D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A1CE-7B68-44D8-BDF7-66B04C1CB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64C9-661F-4DDF-A296-7B4A10FA9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614-5D18-4B09-BAF1-9953DB5CF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BD15-50B5-408E-BBA7-B0241BF43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1607-0E3D-4050-96EB-77452E7C9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и регламентирование организации правотворче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система принятия решений о разработке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изация  процедуры проектирования нормативных правов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BD3C-2443-4E0A-A371-A71D5B62D2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: организация право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ринятия решений о разработке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ИРОВАНИЕ ПРАВОТВОРЧЕСК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право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удит действующей системы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зменений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2DC-DB3A-49FA-B904-DB4FEEE23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проектирования нормативных правовых ак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ая предварительная разработка КОНЦЕПЦИИ нормативного правового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CDDC-20BE-4146-8A71-37F1C3B11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ественное участие в правотворческом процес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 на самых ранних ста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организ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поощр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233A-3917-480A-B6D1-C0A2FD983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онтроля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Calibri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9741-582A-4C85-BC05-ACDD226C9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1E9D-B3D0-493A-8A34-70609C9E5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7C4-5660-4873-91A0-218C9258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AF5-B50A-4482-9A77-21BBA7F8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927-2CF5-479B-968D-AA015B6C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048-3826-45F0-974F-DAECC8A4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E23E-7612-4F01-BF35-16EFB4F9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FE4F-FE2D-4C14-B933-BA5C9A4A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D987-3725-44B6-BEF7-0F593655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0DF3-4C78-4C8C-912D-8DF5AA08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920B-CCBF-4251-B7CB-D4A36CAD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3078-677F-430E-8484-2A7E1A38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4C6D-EABF-4589-8B2C-3FECFD8B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FDB-BDF2-4B50-8809-D533A7CF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DF7E-4133-4248-8DCE-35490C9D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6D73-E4DA-48A1-B8A7-B4975306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675F-69E2-4BF8-96AB-B567243C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1C73-8922-423B-9829-63A61B71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4A83-7056-4838-BEDC-E5B69E08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829-96AF-4945-B07B-39962265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EA7-79D3-4342-AF19-F1B56046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F34-91B9-4492-88FE-1E0B5902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3BE-D6D3-423E-BD32-1A6D3C96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C89-F097-498A-9E8A-3EFA11E5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D44-1A4E-4046-8020-9C727BBF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F57-BEEF-4BB9-8F2C-3CBEC893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577-86D4-4840-86CD-BDFD14B8BDD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D0E3-A598-47A0-AC45-9F6257F6F7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41A4-B8E1-47E3-8EB7-495F8B36094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65E9-E2A3-4036-B65E-02E2EA09F6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Повышение качества проектов правовых актов.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оль, формы и виды экспертиз в правотворческом процессе.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7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-коррупционная экспертиза муниципальных 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решаемым задача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905120"/>
            <a:ext cx="8416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способу организации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(по догово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(инициати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ственная экспертиза проекта/решения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(правовая)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17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новации закона об антикоррупционной экспертизе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7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чество с институтами гражданского общества при прове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ая трактовка «коррупциогенных фактор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рассмотрения представлен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инициатив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КУРА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Ы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И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ИТУТ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еобходимо принятие муниципального нормативно правового ак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3,ч.1,п.3. ФЗ№1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67280" y="3716280"/>
            <a:ext cx="1512720" cy="1585800"/>
          </a:xfrm>
          <a:custGeom>
            <a:avLst/>
            <a:gdLst>
              <a:gd name="textAreaLeft" fmla="*/ 0 w 1512720"/>
              <a:gd name="textAreaRight" fmla="*/ 546120 w 151272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32360" y="4149720"/>
            <a:ext cx="4030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рмо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определя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пособность органов местного самоуправления и легитимность и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ст.1, ч.2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тикорпуционная экспертиза проводится в отношении: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прави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дения экспертизы на коррупциогенность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ключение АК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АКЭ составляется экспертное заключение, в котором отраж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из 172 ФЗ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5597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нор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840"/>
            <a:ext cx="870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904760"/>
            <a:ext cx="834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1714680"/>
            <a:ext cx="8631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гламентирование организации правотворческ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а система принятия решений о разработке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изация  процедуры проектирования нормативных правовых а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: организация правотворческого процесс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разработке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ПРАВО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636640"/>
            <a:ext cx="8007840" cy="21124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 право примен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Аудит действующей системы правовых 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нозирование развития социальных отнош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изменений законодатель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проектирования нормативных правовых ак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редварительная разработка КОНЦЕПЦИИ нормативного правов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щественное участие в правотворческом процесс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 на самых ранних стад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быть органи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поощ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истема контроля качест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760" y="1413000"/>
            <a:ext cx="848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6:41:01Z</dcterms:created>
  <dc:creator>Хозяин</dc:creator>
  <dc:description/>
  <dc:language>en-US</dc:language>
  <cp:lastModifiedBy>LEGION</cp:lastModifiedBy>
  <dcterms:modified xsi:type="dcterms:W3CDTF">2015-01-28T10:10:14Z</dcterms:modified>
  <cp:revision>16</cp:revision>
  <dc:subject/>
  <dc:title>Повышение качества проектов правовых актов.  Роль, формы и виды экспертиз в правотворческом процессе. </dc:title>
</cp:coreProperties>
</file>